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0A51-D401-4834-86EE-949A0B13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6995-8638-4BA5-9A41-33579F34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625-4676-4E72-8377-F08360D8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F9F-3D82-421C-9FE0-8933D52E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A79-4685-48F2-9833-B127C34C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107-A848-47F8-A67B-2DFE3936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DAF-1EAF-42D2-8516-AB86B021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EA9-DE03-4FB0-B9D0-79C580EF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BF6-0013-4827-908A-AFD56A54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B99-7215-4C21-AAE7-5B094C33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6AE-1D8B-4244-A161-E072D0B0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884-01BD-4943-B3EA-05D7FFAB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325C-E802-49FE-9E5B-536926C3F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Garamond"/>
              </a:rPr>
              <a:t>Using Area Models for Distributive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The following presentation will teach you how to build area models with AlgeBlocks to solve problems using the Distributive Prop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sing Area Models for Distributive Proper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257440" y="3505320"/>
            <a:ext cx="2819160" cy="2819160"/>
            <a:chOff x="5257440" y="3505320"/>
            <a:chExt cx="2819160" cy="2819160"/>
          </a:xfrm>
        </p:grpSpPr>
        <p:sp>
          <p:nvSpPr>
            <p:cNvPr id="44" name=""/>
            <p:cNvSpPr/>
            <p:nvPr/>
          </p:nvSpPr>
          <p:spPr>
            <a:xfrm>
              <a:off x="5257800" y="35053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5257440" y="3505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762120" y="304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Let’s look at an easy problem. Here is how we would make an area model for 2 x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501156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one of your dimensions down this side. Make sure you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4956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3276720"/>
            <a:ext cx="304560" cy="30456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6160" y="9144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2 and 3 are the factors in our problem. They are also the dimensions (length and width) of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508200"/>
            <a:ext cx="301680" cy="301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3809880"/>
            <a:ext cx="301680" cy="301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15238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the other dimension down this side. Again, make sure to start in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200400"/>
            <a:ext cx="301680" cy="301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3200400"/>
            <a:ext cx="301680" cy="301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200400"/>
            <a:ext cx="301680" cy="3016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4876560" y="2133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981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we are ready to model the area. The students will need to determine which blocks fit perfectly in th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57800" y="3505320"/>
            <a:ext cx="914400" cy="606240"/>
            <a:chOff x="5257800" y="3505320"/>
            <a:chExt cx="914400" cy="606240"/>
          </a:xfrm>
        </p:grpSpPr>
        <p:sp>
          <p:nvSpPr>
            <p:cNvPr id="60" name=""/>
            <p:cNvSpPr/>
            <p:nvPr/>
          </p:nvSpPr>
          <p:spPr>
            <a:xfrm>
              <a:off x="5257800" y="35053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57800" y="38098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62720" y="35053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62720" y="38098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35053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70520" y="380988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019920" y="4343400"/>
            <a:ext cx="2057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So, the area is 6. Back to our equation, 2 x 3 = 6. 2 and 3 are the factors or dimensions, and 6 is the product or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sing Area Models for Distributive Proper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257440" y="3505320"/>
            <a:ext cx="2819160" cy="2819160"/>
            <a:chOff x="5257440" y="3505320"/>
            <a:chExt cx="2819160" cy="2819160"/>
          </a:xfrm>
        </p:grpSpPr>
        <p:sp>
          <p:nvSpPr>
            <p:cNvPr id="68" name=""/>
            <p:cNvSpPr/>
            <p:nvPr/>
          </p:nvSpPr>
          <p:spPr>
            <a:xfrm>
              <a:off x="5257800" y="35053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257440" y="3505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62120" y="304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let’s try the following problem: x(x + 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501156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one of your dimensions down this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4956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6160" y="9144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x and (x + 3) are the factors or dimensions on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15238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the other dimension down this s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876560" y="2133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981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we are ready to model the area. The students will need to determine which blocks fit perfectly in th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518148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So, the area is 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 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+ 3x. Back to our equation, x(x + 3) = 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3x. x and (x + 3) are the factors or dimensions and 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3x is the product or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3505320"/>
            <a:ext cx="301680" cy="13716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257800" y="3195720"/>
            <a:ext cx="2282760" cy="306360"/>
            <a:chOff x="5257800" y="3195720"/>
            <a:chExt cx="2282760" cy="306360"/>
          </a:xfrm>
        </p:grpSpPr>
        <p:sp>
          <p:nvSpPr>
            <p:cNvPr id="80" name=""/>
            <p:cNvSpPr/>
            <p:nvPr/>
          </p:nvSpPr>
          <p:spPr>
            <a:xfrm>
              <a:off x="7238880" y="319572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5400000">
              <a:off x="57927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3432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2940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257800" y="3505320"/>
            <a:ext cx="2282760" cy="1371600"/>
            <a:chOff x="5257800" y="3505320"/>
            <a:chExt cx="2282760" cy="1371600"/>
          </a:xfrm>
        </p:grpSpPr>
        <p:sp>
          <p:nvSpPr>
            <p:cNvPr id="85" name=""/>
            <p:cNvSpPr/>
            <p:nvPr/>
          </p:nvSpPr>
          <p:spPr>
            <a:xfrm>
              <a:off x="5257800" y="3505320"/>
              <a:ext cx="137160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3432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3888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sing Area Models for Distributive Proper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5257440" y="3505320"/>
            <a:ext cx="2819160" cy="2819160"/>
            <a:chOff x="5257440" y="3505320"/>
            <a:chExt cx="2819160" cy="2819160"/>
          </a:xfrm>
        </p:grpSpPr>
        <p:sp>
          <p:nvSpPr>
            <p:cNvPr id="90" name=""/>
            <p:cNvSpPr/>
            <p:nvPr/>
          </p:nvSpPr>
          <p:spPr>
            <a:xfrm>
              <a:off x="5257800" y="35053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257440" y="3505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62120" y="304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One last problem to practice. 2x(2x + 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01156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one of your dimensions down this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44956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6160" y="9144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2x and (2x + 2) are the factors or dimensions on our area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15238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Put the other dimension down this s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4876560" y="2133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81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Now we are ready to model the area. The students will need to determine which blocks fit perfectly in th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1480" y="5958000"/>
            <a:ext cx="31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What do you think the area 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952880" y="3505320"/>
            <a:ext cx="301680" cy="2743200"/>
            <a:chOff x="4952880" y="3505320"/>
            <a:chExt cx="301680" cy="2743200"/>
          </a:xfrm>
        </p:grpSpPr>
        <p:sp>
          <p:nvSpPr>
            <p:cNvPr id="101" name=""/>
            <p:cNvSpPr/>
            <p:nvPr/>
          </p:nvSpPr>
          <p:spPr>
            <a:xfrm>
              <a:off x="495288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2880" y="48769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57800" y="3200400"/>
            <a:ext cx="3349800" cy="301680"/>
            <a:chOff x="5257800" y="3200400"/>
            <a:chExt cx="3349800" cy="301680"/>
          </a:xfrm>
        </p:grpSpPr>
        <p:sp>
          <p:nvSpPr>
            <p:cNvPr id="104" name=""/>
            <p:cNvSpPr/>
            <p:nvPr/>
          </p:nvSpPr>
          <p:spPr>
            <a:xfrm rot="5400000">
              <a:off x="57927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0100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5920" y="3200400"/>
              <a:ext cx="301680" cy="30168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7164360" y="266544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257800" y="3505320"/>
            <a:ext cx="3349800" cy="2743200"/>
            <a:chOff x="5257800" y="3505320"/>
            <a:chExt cx="3349800" cy="2743200"/>
          </a:xfrm>
        </p:grpSpPr>
        <p:sp>
          <p:nvSpPr>
            <p:cNvPr id="109" name=""/>
            <p:cNvSpPr/>
            <p:nvPr/>
          </p:nvSpPr>
          <p:spPr>
            <a:xfrm>
              <a:off x="5257800" y="3505320"/>
              <a:ext cx="137160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0100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05920" y="35053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01000" y="48769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29400" y="3505320"/>
              <a:ext cx="137160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4876920"/>
              <a:ext cx="137160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29400" y="4876920"/>
              <a:ext cx="137160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05920" y="4876920"/>
              <a:ext cx="301680" cy="1371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495680" y="63244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If you said 4x</a:t>
            </a:r>
            <a:r>
              <a:rPr b="1" lang="en-US" sz="1800" spc="-1" strike="noStrike" baseline="30000">
                <a:solidFill>
                  <a:srgbClr val="333399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Garamond"/>
              </a:rPr>
              <a:t> + 4x, you are correc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Using Area Models for Distributive Proper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5:09:02Z</dcterms:created>
  <dc:creator>Mary</dc:creator>
  <dc:description/>
  <dc:language>en-US</dc:language>
  <cp:lastModifiedBy>Mary</cp:lastModifiedBy>
  <dcterms:modified xsi:type="dcterms:W3CDTF">2008-07-22T21:03:19Z</dcterms:modified>
  <cp:revision>8</cp:revision>
  <dc:subject/>
  <dc:title>Slide 1</dc:title>
</cp:coreProperties>
</file>